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F66FA-B8AA-4819-B3AD-158A1A1632B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8D7CC-22A9-4DA4-AEA5-23CB410FE4E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31174-6F5E-448F-B83A-9990227058B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ACF31-CA3A-4488-A79D-738A3211CEB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94BDD-EA65-4774-A1B4-01CD38524DA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1CF24-E02D-44FC-884F-3194DD3A9BA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9756E-BF7B-464B-99D7-BF8F26F40E6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98B26-C170-4447-885F-E7B2B7A38D4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0ED16-22DD-48DE-BDE1-AB0980A44D5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42DF1-C6ED-4B6A-8B76-F2FE6B9D608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94FD-FECC-41A4-AD00-F072F92BB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6E57-8081-457E-813E-D8168A6C9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1449-7D64-4288-A57E-A0035CA71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107D-4978-41C7-ABA6-F2DF33997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A4AC-39A5-4E99-8389-ECDF3DFB9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BC9C-B09C-4C14-8EFF-DD6B9F236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AB3A-10F5-4E86-8A46-2459FF318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E4AC-5F02-4F15-AB4F-4EDA1D590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2994-188C-4668-95D1-955049924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40BB-FE6B-485E-BFE7-EC691E15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9E46-1247-43A3-A815-20D0A63C6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1C87-9F7F-4C48-B78B-AC57D9B42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ED736-1279-43D2-AF72-32EF85CCB6A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atural Selection in 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ppered Moth-Evolution in 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Content Placeholder 1"/>
          <p:cNvSpPr/>
          <p:nvPr/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ring 1976- 1979, a survey of the town showed that of the 972 specimens collected, 25 were of the light speckled varie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a clear indication that the peppered moth is again in the process of changing its color once ag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2" descr="pepfig1c.gif - 27266 Bytes"/>
          <p:cNvPicPr/>
          <p:nvPr/>
        </p:nvPicPr>
        <p:blipFill>
          <a:blip r:embed="rId1"/>
          <a:stretch/>
        </p:blipFill>
        <p:spPr>
          <a:xfrm>
            <a:off x="5292720" y="4229280"/>
            <a:ext cx="3157560" cy="26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1600200" y="0"/>
            <a:ext cx="6781680" cy="672624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228600" y="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requencies of two forms of peppered moths in the 195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atural Selection in 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Most mutations produce inferior versions of an original gen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Some mutations allow 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adaption to a changing environmen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Sometimes mutant alleles give a mutated organism a 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selective advantag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Changes in the environment can be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500" spc="-1" strike="noStrike">
                <a:solidFill>
                  <a:srgbClr val="000000"/>
                </a:solidFill>
                <a:latin typeface="Comic Sans MS"/>
              </a:rPr>
              <a:t>- abiotic factor (e.g. pollution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- biotic factor (e.g. disease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dustrial Pollution and the Peppered Mo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wo forms of peppered mo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2438280" y="3048120"/>
            <a:ext cx="4724640" cy="34956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2819520" y="59436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(melan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Peppered Mo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types differ by only one allele of the gene forming dark pigment (melan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th forms fly by n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th forms rest on trees during the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rior to Industrial rev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374328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 1800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ght form common throughout Brit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ark arose by mu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very r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3809880" y="2362320"/>
            <a:ext cx="5105520" cy="38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ight peppered mot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9280" y="1219320"/>
            <a:ext cx="53294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n non-polluted 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tree trunks covered with pale colored bark (birch tre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th well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camouflage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gainst pale 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ark form easily seen and eaten by pred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5148360" y="1341360"/>
            <a:ext cx="36716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urvey in the 1950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4473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le moths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ost abunda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 non-industrial 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ark moths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ost abunda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 areas suffering from heavy air-pol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2" descr="pepfig1a.gif - 18860 Bytes"/>
          <p:cNvPicPr/>
          <p:nvPr/>
        </p:nvPicPr>
        <p:blipFill>
          <a:blip r:embed="rId1"/>
          <a:stretch/>
        </p:blipFill>
        <p:spPr>
          <a:xfrm>
            <a:off x="5219640" y="4229280"/>
            <a:ext cx="3124440" cy="2627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"/>
          <p:cNvPicPr/>
          <p:nvPr/>
        </p:nvPicPr>
        <p:blipFill>
          <a:blip r:embed="rId2"/>
          <a:srcRect l="0" t="20446" r="0" b="6374"/>
          <a:stretch/>
        </p:blipFill>
        <p:spPr>
          <a:xfrm>
            <a:off x="5292720" y="1557360"/>
            <a:ext cx="259236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ason for chang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46814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 polluted ar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soot particles darken tree tru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ark colored well hidden and favored by natural se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ight colored moth easily se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5278320" y="1676520"/>
            <a:ext cx="34178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eppered Moth-Evolution in A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Content Placeholder 1"/>
          <p:cNvSpPr/>
          <p:nvPr/>
        </p:nvSpPr>
        <p:spPr>
          <a:xfrm>
            <a:off x="53964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1950 man interceded again with the passage of smoke control laws in England and the land once again began to be green once ag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2" descr="pepfig1b.gif - 22175 Bytes"/>
          <p:cNvPicPr/>
          <p:nvPr/>
        </p:nvPicPr>
        <p:blipFill>
          <a:blip r:embed="rId1"/>
          <a:stretch/>
        </p:blipFill>
        <p:spPr>
          <a:xfrm>
            <a:off x="2843280" y="3467160"/>
            <a:ext cx="360036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6T10:23:54Z</dcterms:created>
  <dc:creator>hhashmi</dc:creator>
  <dc:description/>
  <dc:language>en-US</dc:language>
  <cp:lastModifiedBy>St. Aloysius</cp:lastModifiedBy>
  <dcterms:modified xsi:type="dcterms:W3CDTF">2013-02-07T19:36:07Z</dcterms:modified>
  <cp:revision>7</cp:revision>
  <dc:subject/>
  <dc:title>Natural Selection in Action</dc:title>
</cp:coreProperties>
</file>